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6B0-4234-4C6C-937F-8AF7BE83C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0D7-0235-4833-B1A7-95351EABF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38E-869B-4C44-932D-4109C940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3FC-F93E-4F77-B227-362FF9EA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838-56F2-46C6-BC55-535736A9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B7B-5244-4291-8929-7049188A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971-942F-447E-822C-73618186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912-CD3D-4B11-830F-C812D617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575-1731-4D39-A753-B768D7EF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A0A-815A-4395-B004-D7DE65FD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CE11-768D-426F-8324-C3AB15F4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0B5-3823-4B3F-9C8D-1CBB8097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8561-56CB-45EE-B662-C03A82B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498-62E5-4D43-9D40-A8616CE3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829-C702-4D62-8875-93C345B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52B5-EC47-4811-A2FE-28B4B5A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0008-283B-4873-B20C-96F5E2AC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CEB-E882-42B2-B7CD-67F97714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CB0-1491-4530-B5AB-987C483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5E1-A4C3-4A86-A0A9-D403BA4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31F-9466-4FD4-AAAF-3991880B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334-169C-4962-8E34-E36D3BE9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E5F-4D66-421F-B603-C7E435A0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EF3-6ECA-47F4-9E02-6756743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4A1-C7B5-4789-88E0-6890983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F88-7681-49EE-BA8B-E0E7AD4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A5D8-E51A-4330-82EE-D0827CADA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496-AF9F-4DE3-B7D3-E09234D3F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213372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školy: 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ravy snímatelných náh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materiálu: VY_32_INOVACE_ZSP.4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um tvorby: 13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Mgr. Martina N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a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zdělávací materiál využívá ICT při výuce a tím inovuje výuku praktického vyučování, zároveň motivuje a aktivuje žáky. Seznamuje žáky s druhy oprav snímateln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ravy snímatelných náhr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640" y="1700280"/>
            <a:ext cx="7200720" cy="3889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3382920" cy="255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3456000" cy="254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95640" y="24192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63840" y="436392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618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škození náhrady se nejprve hledá příč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ektu. Potom se zhodnotí zda je po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kovat novou náhradu, či je možné náhra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av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av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omená náhra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ekty kovových prvk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šíření baze náhrady po extrakci zub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baze náhra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aktura náhrad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čin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pádu náhra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koncentraci tahu či tlak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ý ohyb náhrady během žvýkání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sklina se může objevit i ve spojení pryskyřičných zubů a báze náhr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ekty kotevních prvků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rava retenčního prv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otoví se otisk, který se provádí př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edenou náhradu v dutině ús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inátovou otiskovací hmot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otoví se pracovní model s náhrad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í se nový retenční element (drátěn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513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Rebaze náhrad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má rebaz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rováděna přímo v zubní ordin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přímá rebaz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zhotovuje se v zubní laboratoři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je mnohem přesnější, ale nepoměrně pracn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užná rebaz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 pomocí plastických a silikonových   materiálů (používají se pro zlepšení retence,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prevenci dekubitů sliznice, u imediátních náhrad během hojení extrakčních ran, k podkládání náhrad během vhojování implantátů, pro podložen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bturá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TÁLOVÁ, 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xní a snímatelná prot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. vyd. Praha: Grada, 2004. ISBN 80-247-0655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roje obrázk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grafie zhotovila, není-li uvedeno jinak, Mgr. Hana Chalup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2-03T19:07:02Z</dcterms:modified>
  <cp:revision>57</cp:revision>
  <dc:subject/>
  <dc:title>Snímek 1</dc:title>
</cp:coreProperties>
</file>